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7750C-8C96-42A2-BE98-973C567EE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4830A-62DB-4030-8CE6-A325A6914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8E8E2-F4C8-41D5-A922-6B6A815BB1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4F3-5D90-4BD5-84BE-062A58B1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ADA-9021-458D-801B-36EBB5F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C78-7D80-47E9-8DFA-AC3ED94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207-9004-472E-98B5-DEFE0852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23E-3D6D-46D0-8FBB-3709E27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9B7-6957-43D7-B826-A807FF1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AFD-2916-4578-B90C-8FA94933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165-006C-459C-B07B-6054571C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D98-B6A2-4CF8-BE9E-86718C71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E0F-CEBD-4E64-8207-498DF2E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170-8438-425C-B948-F5BBAFF3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7C2-4488-40C9-BC00-9328CD05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9877-0351-4E82-A37E-4615B90F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o grading (scale of 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28600" y="838080"/>
            <a:ext cx="843264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person responsive? Too much time to get back to emails (&gt;1-2 day)? Takes on too much work and does not recognize it is not feasible, and does not communicate it to the team? 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aged in team meetings, or always on the side, “surviving” through the class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the person appear organized? Maintains an agenda, keeps track of tasks in the list, does not lose ideas by taking notes on the fly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send the person to another meeting to represent your group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 hire that person in your team? Would you take off to a conference and leave everything in her/his hands?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3280" indent="-689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8160" indent="-591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44520" y="762120"/>
            <a:ext cx="8338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cedure is not intended to create “enemies” in the group; first of all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remain anonym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al life, you will start managing work, and probably people, and will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a 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se regarding who to trust professionally. This may make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between a successful career and lots of fru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my suggestions for auto grading fall under the category of del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you start managing teams, and/or sharing work load, you will have to r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others. (suggested reading: “Getting things don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do “cartel” and give all As to yourselves, even to those who do not d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, you are off to an unsuccessful work life. You need to be able to say no,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more when the work is not done proper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20:33:20Z</dcterms:created>
  <dc:creator>Riccardo</dc:creator>
  <dc:description/>
  <dc:language>en-US</dc:language>
  <cp:lastModifiedBy>Bevilacqua,Riccardo</cp:lastModifiedBy>
  <dcterms:modified xsi:type="dcterms:W3CDTF">2016-08-14T21:07:14Z</dcterms:modified>
  <cp:revision>13</cp:revision>
  <dc:subject/>
  <dc:title>Presentation Grading (scale of 10)</dc:title>
</cp:coreProperties>
</file>