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10B55-4D5C-494B-A516-753F9B91D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8FA48-4D68-4147-BDA0-55C53C2CF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B0770-BFC4-4155-88F1-212FEBA656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DBD30-ADBD-4107-8910-6DBF03ECB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257EE-6F09-47B1-A8E0-3ECB86435B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2E361-3D64-4E09-A357-4EE4B1D24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894A6-A5BC-410D-9085-605B4D9D99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81BF6-08F5-471F-8B4D-0FFE110EF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B30BF-8FD3-472F-AE1A-75DF4F6164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F42D-328E-4A4C-9F49-88638425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B09-6A1B-420B-BC5D-F2B6C6E9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4F5-7731-47FD-B8C8-35E7D43E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4907-9260-4EC9-916E-BF960980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028-502D-402E-B7B9-37F90259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8050-0A89-45AB-BB0C-E0E74E7C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3D7-43F3-48CB-BDB5-7C9C8363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63A-E6BA-4828-888E-C42521F8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DF8-4A9B-4B45-B61F-10AC11CE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267-AB4A-461C-8186-039BD033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D37-DE7F-4BD4-AB84-B5598899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BF6-1154-478B-98D4-765A50E9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9E40-DF39-4698-B7E2-64D9324DD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orts Grading (scale of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68200" y="457200"/>
            <a:ext cx="84330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1074960" indent="-654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tions: as per paper template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INTRO LINK YOUR WORK TO NASA TECH ROADMAPS: http://www.nasa.gov/offices/oct/home/roadmaps/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have no sections numbered, missing some of them, etc.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WAYS number figures, equations, tables, refer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deficiency (tables not numbered, figures, eqs.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 ALL of them linkable, i.e. objects that can be cross referenc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do not do it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0.5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figure MUST be referred to into the tex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wis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reference MUST be referred to into the text. In ascending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wis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4960" indent="-654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01840" indent="-56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orts Grading (scale of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68200" y="957240"/>
            <a:ext cx="84330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1133280" indent="-689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WAYS have an abstract, where a reader can have a quick overview of th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ing abstrac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figure MUST have a self-explanatory caption and must be 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GETTING units of measurements is EXTREMELY B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are engineers, this count a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READABLE axis are EXTREMELY B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 above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orts Grading (scale of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68200" y="304920"/>
            <a:ext cx="84330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IFY text (it looks nic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s are importa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typo-detection tool (e.g. word corr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 many grammar errors or non-sense sentences…it will depend on th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WAYS have 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ant!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ase, use International System of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the technical content it will be a case by case eval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ME THE EDITABLE FILE, I NEED TO CHECK CROSS-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9800" indent="-511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1360" indent="-59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orts Grading (scale of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68200" y="304920"/>
            <a:ext cx="84330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lagiarism, copy-pasting, non crediting when you extract SHORT parts from other documents IS A SERIOUS BUSINESS, WILL NOT BE TOLERATED, AND MAY RESULT IN FAILURE OF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0:27:20Z</dcterms:created>
  <dc:creator>Riccardo</dc:creator>
  <dc:description/>
  <dc:language>en-US</dc:language>
  <cp:lastModifiedBy>Bevilacqua,Riccardo</cp:lastModifiedBy>
  <dcterms:modified xsi:type="dcterms:W3CDTF">2016-08-24T19:09:33Z</dcterms:modified>
  <cp:revision>16</cp:revision>
  <dc:subject/>
  <dc:title>Reports Grading (scale of 10)</dc:title>
</cp:coreProperties>
</file>