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DB883-F0EA-4E2A-86F9-52B6CE0C2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B11FC-61F7-4264-A3FA-C0F2DDC03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E03E-F701-4846-9B72-56E80BA98D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B4FA2-B5DD-4591-BA86-F98868A7F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CB43B-0036-459F-B686-32508DA1C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02B-4D09-444C-BA2D-F576E077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B0A-0696-44BD-8094-B114A2AD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CBD2-36DB-4A19-81C0-0A460E68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D83C-9E17-465A-A062-DB649C75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92AD-7E34-4085-8310-DE868962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C5F-8530-4E0D-AFCE-1A5A19D5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EE1-E07E-4EDA-B60D-1C9C0D54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B1D-3C99-4E1B-B01C-A2831BEE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09D-A8C1-40B5-9850-20C5BDA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80D-6F88-458F-935B-42C01EF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3E8-211E-4C9B-A1CD-6E79A719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BC6-52C5-4194-9B6B-634174E2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631A-AEC0-43A0-9214-9EC3DBBA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68200" y="1219320"/>
            <a:ext cx="84330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2 min / slide, indicative (no grading…but if you get really stuck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k to people, not to the projection screen (if you are staring at the screen really too much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some of the slides is fine…unless you read them all!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eye contact with every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, do it…be present, do not talk to your hands or PC or whatever is inanimate  (you really never look at people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entation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68200" y="1488960"/>
            <a:ext cx="84330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8560" indent="-71136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ings readable (no small fonts, small equations, etc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clear, go the point (you wander in no man’s land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speak too fast…and not too slow either...speak loud!!!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E YOURSELF!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0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0:33:20Z</dcterms:created>
  <dc:creator>Riccardo</dc:creator>
  <dc:description/>
  <dc:language>en-US</dc:language>
  <cp:lastModifiedBy>Bevilacqua, Riccardo</cp:lastModifiedBy>
  <dcterms:modified xsi:type="dcterms:W3CDTF">2013-10-15T13:57:08Z</dcterms:modified>
  <cp:revision>21</cp:revision>
  <dc:subject/>
  <dc:title>Presentation Grading (scale of 10)</dc:title>
</cp:coreProperties>
</file>